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67D-7F5E-485E-84FC-31E5F7C7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4EC-E51E-47AF-BBC4-49AC7ECC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BA1-B699-4312-9E46-E9E51DED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1FB-1FD2-4155-94A5-D4D49434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54E-22E3-46CC-9358-BE6145F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346-33BE-48F4-A5F4-5DD088B9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388-221A-4E0E-8479-A62F6CA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69A-4228-4AB9-9834-50D62EC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0D5-7CB0-4F71-A09B-DCE0961D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F36-0E4B-4FD7-B284-C6A0E6C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ACE-BD18-4515-AFCF-8C6A61F8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178-8084-43A4-9CA2-3ABF4ED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741DA-8110-417F-A233-4E8CF103E125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"/>
          <p:cNvGrpSpPr/>
          <p:nvPr/>
        </p:nvGrpSpPr>
        <p:grpSpPr>
          <a:xfrm>
            <a:off x="96840" y="3495600"/>
            <a:ext cx="2867040" cy="208080"/>
            <a:chOff x="96840" y="3495600"/>
            <a:chExt cx="2867040" cy="208080"/>
          </a:xfrm>
        </p:grpSpPr>
        <p:grpSp>
          <p:nvGrpSpPr>
            <p:cNvPr id="44" name="Group 2"/>
            <p:cNvGrpSpPr/>
            <p:nvPr/>
          </p:nvGrpSpPr>
          <p:grpSpPr>
            <a:xfrm>
              <a:off x="96840" y="3495600"/>
              <a:ext cx="2232000" cy="208080"/>
              <a:chOff x="96840" y="3495600"/>
              <a:chExt cx="2232000" cy="208080"/>
            </a:xfrm>
          </p:grpSpPr>
          <p:pic>
            <p:nvPicPr>
              <p:cNvPr id="45" name="Picture 5" descr=""/>
              <p:cNvPicPr/>
              <p:nvPr/>
            </p:nvPicPr>
            <p:blipFill>
              <a:blip r:embed="rId2"/>
              <a:srcRect l="0" t="0" r="73827" b="0"/>
              <a:stretch/>
            </p:blipFill>
            <p:spPr>
              <a:xfrm>
                <a:off x="96840" y="3495600"/>
                <a:ext cx="704160" cy="20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6" descr=""/>
              <p:cNvPicPr/>
              <p:nvPr/>
            </p:nvPicPr>
            <p:blipFill>
              <a:blip r:embed="rId3"/>
              <a:srcRect l="52317" t="0" r="18459" b="0"/>
              <a:stretch/>
            </p:blipFill>
            <p:spPr>
              <a:xfrm>
                <a:off x="1542600" y="3495600"/>
                <a:ext cx="786240" cy="20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897840" y="3501000"/>
                <a:ext cx="606600" cy="19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Imagen 6" descr=""/>
            <p:cNvPicPr/>
            <p:nvPr/>
          </p:nvPicPr>
          <p:blipFill>
            <a:blip r:embed="rId5"/>
            <a:stretch/>
          </p:blipFill>
          <p:spPr>
            <a:xfrm>
              <a:off x="2268000" y="3567600"/>
              <a:ext cx="695880" cy="6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Calviño Gonzalez, Maria</cp:lastModifiedBy>
  <dcterms:modified xsi:type="dcterms:W3CDTF">2025-01-27T15:07:57Z</dcterms:modified>
  <cp:revision>4</cp:revision>
  <dc:subject/>
  <dc:title>PowerPoint Presentation</dc:title>
</cp:coreProperties>
</file>